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641-2780-40B1-9F4F-7FBE224F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3FA-23B4-4BCB-BDF4-CDE3B1A0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FE940-6474-4BF1-BD27-D88EC95C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8644B-7CC6-4939-8D5D-4E66CA03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E31A0-8571-4DC8-8ABA-42E7E6E7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B3AF6-1502-4D85-AC49-5DB5DFB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2D852-13AC-42BB-A6BE-8529D51B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7BE2A-88E5-4048-B393-B5C94B4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B238D-7009-4CED-880B-C909E0C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E447-4BA8-4C4B-98DD-E0B82103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7184D-15EE-4AEC-9905-A347C1A4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62D-B1B3-45A2-96A0-5246C9A1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110-4C39-4C3B-9E18-E1685752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6E29-F99C-4D63-B50A-2A7C64B3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85D9-A001-410E-B09B-1BA2766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D4D9-D269-40A1-BA4B-4E062D76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79CA-D07A-489E-83C2-AFFCDB2F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89A2-D31C-4BB9-9EEC-22126E75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A5A1-81F6-4AB1-8670-DF932FDA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9A3B-A675-4742-8BD6-0F49E5F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78E-CC54-4DB2-889E-49C31E8C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3B08-AD46-4B04-AC5D-7387AD2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66CE-927E-4A19-9AD9-48C255B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F371-CD22-427B-A1D1-8650076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81B3-251B-42A1-A033-9F5158DA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F81C-86CB-417F-BA63-EDA5949D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55D6-F7ED-4808-A67F-3C296AEB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73F3-FE66-4120-8907-C95C12A5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F52A-2EA3-47AD-910A-2AFDBDF2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4CD3-18C9-433D-AEAB-B6A20094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85AE-8158-48CE-95DD-DC4D590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94A-793E-4713-8EF7-E342A05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EF6E-8DB9-4DD2-8C63-5C95410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C75B-7884-454D-AB8E-E7743823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6EDC-0C02-4A41-887A-1D2BCA10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DCB9-6D9F-4984-A644-2B167FF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EDD5-0571-47F2-84F3-0C88BC2B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A51F-3AD6-43EF-8E1D-0F77B4AD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2DEE-1EE0-4733-8084-378A50D3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F5499-0632-49AE-B335-BB1F32FF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E360-39B5-4965-A135-B6E5DC70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153B-20C8-4C84-88F3-39DB381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25E-63F0-4844-BECA-46358489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C3AF-9702-4A53-A9A0-80FC2367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5C91-E49B-4BA5-BB7A-CB1C10F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BA7E-60A5-4286-875F-737011CD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60A0-BF2C-49BF-B85B-145B7FD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FAE7-FFCF-44A8-98A2-D1D8E0E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9F18-4005-4AF4-9BB1-F1E4283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FA1E-DA14-4BE3-B484-EA8FD36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FC86-24EB-4CBD-910A-FEAD0074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90E7-051E-41A3-A537-8FB1960A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37F74-F5D4-44D2-8931-817DCC1D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C50-39FA-4867-B451-E3EB1EB2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CF733-7615-4757-91BE-F86B56A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AA3E2-DDFB-46CF-BAC2-103B1564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4115A-A4A6-4B83-A675-5A09C3EE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3CE9-98D0-4D17-8EAE-D28F48C2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6722-9E4F-4FD5-B5EE-8F11787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962A5-5574-408A-AAFF-24F69C8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64139-CCAD-491D-8780-40B319A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F0E8-F663-403B-94FC-D2B40447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F4603-166A-4CA4-8F94-7A93E3B8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3DB35-D1CB-41E6-8F53-37CD0D30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B47-7EA4-44A1-95C5-10AE7FF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39768-6EB1-43AA-83C6-ADE63077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0E57-DD26-46E8-9F4F-48B59992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BF5D9-06B1-4CEC-AE63-046B864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2F06-A6F3-4B0A-A2ED-F8BBE45E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5C70-94FF-46F2-A75E-5F3C8CD1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78668-A0B6-4B23-B74E-6E081D0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5C36A-7569-478D-8904-5F702FD3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458C-0EC8-4233-A4B1-165EFF8C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EEA4A-9DCA-43C6-B657-6FF210E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98F84-26DF-4DEA-B299-3CF6EFF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05E-2517-483F-9E7C-D59DFEA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61654-8826-4610-BCAC-7CC06205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CA3F-24EC-4CEC-BF46-CEB11A06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B1949-60B2-413B-B721-C80B2EC1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60A5B-F4F5-43C8-B354-4D13C44B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D427B-95CE-4A00-B969-87F3C80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54E7-217E-46B3-960A-3A261ACF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62B85-AE88-478B-9446-D092F85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6E17-94D1-4DDE-AEE1-F3F31714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B15D-ABF8-4A36-BB49-0878C1E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E5E2F-7EB6-4F56-9AFF-7087131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098-348A-4602-A93B-9F1619F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66EDD-4786-49C3-96D6-1691D57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B1B9-2C0F-4A9C-A5CE-C43FD9E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3E2A-2CBD-4B84-9AD0-3ED5375E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3074-74E0-451A-90CF-B72898C1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9CE5B-4446-4065-A68D-59851388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150D-D418-400E-A9F7-74CFC62A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C1BA9-1147-40DA-A3E2-41735A3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3E13-56A8-4A0E-B05A-FF2C3B4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1C603-FE83-4E3F-83E9-34A104DD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25650-683C-40FE-AE48-2595C821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CB4-D213-4566-9697-B519EA9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7837-1322-4423-A51B-8B4DE1D8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C347-860B-4E81-A2F6-536E5AD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A8AB-5837-42FD-98ED-1B69727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618A-47D9-4E66-8A8A-97A9C10F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3F6ED-1592-4FB1-9A49-7B111C3A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AAD28-4F63-43A6-ABA4-7B87B402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66EE-E920-411B-AE5C-1CFA5116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0C238-695F-4CBB-9C8D-17985A0A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A9FE5-5900-4662-9393-CE2853B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1B811-C446-4DC1-939E-87044018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00F9-8179-46F3-B2B0-A5315D6D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722-9A30-40DA-8989-2F3E08FD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FD82-08EA-478D-9B82-03CFF5C97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693-151D-40D0-B58F-22822455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ACA-8921-4802-895D-1A9B6C57B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0337-2F80-46FE-A95A-FCCC71B57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DC08-8EAF-4AE6-80D9-E8A105C65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56D9-4831-4D79-ACE1-5F84F51C0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7F92-38D7-4136-899D-12C3C3CA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11.4: Solving quadratic inequalities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quadratic inequality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quadratic inequality algebra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leeding Cowboys"/>
              </a:rPr>
              <a:t>How do you write quadratic inequalities?</a:t>
            </a:r>
            <a:endParaRPr b="0" lang="en-US" sz="40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adratic inequality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an be replaced by &l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, or 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leeding Cowboys"/>
              </a:rPr>
              <a:t>How do you solve quadratic inequalities graphically?</a:t>
            </a:r>
            <a:endParaRPr b="0" lang="en-US" sz="40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&gt;,&l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, or ≤ to an =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 like we did in the last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the part of the graph that makes the inequality true (ie, when is y greater than 0 or less than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Check this out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x+3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x coordinate = -b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 -(-4)/2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4/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 in to find the y coordinat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(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(2)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4-8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symmetric points at x=0 and x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 in x=0, and find y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486400" y="1752480"/>
          <a:ext cx="32400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752480"/>
                    <a:ext cx="32400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562720" y="1752480"/>
          <a:ext cx="3105000" cy="318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752480"/>
                    <a:ext cx="3105000" cy="31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486400" y="1752480"/>
          <a:ext cx="3090960" cy="317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1752480"/>
                    <a:ext cx="30909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Solving algebraically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ke you would algebraically – these are called critic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determine what values would make the whole equation positive or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Try these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-3)(x+1)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-5)(x+7)&lt;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66-767 #2-2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1:42:31Z</dcterms:created>
  <dc:creator>nuhs</dc:creator>
  <dc:description/>
  <dc:language>en-US</dc:language>
  <cp:lastModifiedBy>nuhs</cp:lastModifiedBy>
  <dcterms:modified xsi:type="dcterms:W3CDTF">2007-12-05T21:19:23Z</dcterms:modified>
  <cp:revision>5</cp:revision>
  <dc:subject/>
  <dc:title>11.4: Solving quadratic inequalities</dc:title>
</cp:coreProperties>
</file>